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68B-5E98-48B2-B3DC-DAE1247E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7C3-4046-4E55-BE5E-E0D0DA0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827-EEC5-432A-AB9C-5B2D3D85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98E-3BB5-49FA-BE09-65C7B713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370-32AF-43F8-88D2-D4ABECAD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533-876B-4299-8D12-A16DEBEC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428-42E5-4EE7-92C1-47A9819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AF1-4190-49EA-83F3-5F23D27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149-60F2-4B7B-8B96-2D74398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EBF-7E89-46EC-87CD-0B39743F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916-3E2F-4B72-B917-BDFAA96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586-AFC0-412E-818B-D67EB7F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AD6-7765-406B-BFD0-31B01492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Faith and Confidenc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by William C. Bea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ulitzer Prize Photo,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52560" cy="5029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33:31Z</dcterms:created>
  <dc:creator>CHCCS</dc:creator>
  <dc:description/>
  <dc:language>en-US</dc:language>
  <cp:lastModifiedBy>CHCCS</cp:lastModifiedBy>
  <dcterms:modified xsi:type="dcterms:W3CDTF">2008-04-23T20:37:23Z</dcterms:modified>
  <cp:revision>1</cp:revision>
  <dc:subject/>
  <dc:title>Faith and Confidence by William C. Beall Pulitzer Prize Photo, 1958</dc:title>
</cp:coreProperties>
</file>